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8.png" ContentType="image/pn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44F-1435-4F55-B50A-2BB1F2A9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4EA-D5B6-4C14-B70C-4630D8A0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F89-A945-4A43-A96A-ECA5B58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59A-F824-478B-AB21-24666D7E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CF4-1071-445F-A8A3-D5945FA8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B8A-CA42-4594-B443-995805C6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37D-2831-47FA-8C05-8EA45F2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C51-75FE-47E2-8B0A-802B9E0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D90-2352-409A-B49E-0D721F49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CF0-5F03-445E-B9C9-4BC4BC5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647-FD45-4B27-8026-AC5F041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A5C-2FB0-40A3-A032-87A2E62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DC9-F51A-4E47-8D4D-66609766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5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Monotype Corsiva"/>
              </a:rPr>
              <a:t>ВОДА В ПРИРОД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168720" cy="24274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621240" cy="2403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3328920" cy="2497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39640" y="260280"/>
            <a:ext cx="3279960" cy="2460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Вода, круговорот воды в природе, природная вода, дождевая вода, круговорот воды, пар, парообразное состояние воды, вода в природе, поверхностная вода, грунтовые воды, подземные подпочвенные воды."/>
          <p:cNvPicPr/>
          <p:nvPr/>
        </p:nvPicPr>
        <p:blipFill>
          <a:blip r:embed="rId2"/>
          <a:stretch/>
        </p:blipFill>
        <p:spPr>
          <a:xfrm>
            <a:off x="2124000" y="981000"/>
            <a:ext cx="5214960" cy="39830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755640" y="33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Monotype Corsiva"/>
              </a:rPr>
              <a:t>КРУГОВОРОТ ВОДЫ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0720" y="5203800"/>
            <a:ext cx="6612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Но не нужно думать, что круговорот – это панац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т исчерпания доступных запасов пресной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сё же он происходит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Берегите вод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3-1" descr="Рис. 1. Увеличение годового расхода воды"/>
          <p:cNvPicPr/>
          <p:nvPr/>
        </p:nvPicPr>
        <p:blipFill>
          <a:blip r:embed="rId2"/>
          <a:stretch/>
        </p:blipFill>
        <p:spPr>
          <a:xfrm>
            <a:off x="1692360" y="1341360"/>
            <a:ext cx="5975280" cy="51181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39640" y="404640"/>
            <a:ext cx="77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Потребность человечества в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27-1" descr="Рис. 8. Потребление пресной воды человечеством"/>
          <p:cNvPicPr/>
          <p:nvPr/>
        </p:nvPicPr>
        <p:blipFill>
          <a:blip r:embed="rId2"/>
          <a:stretch/>
        </p:blipFill>
        <p:spPr>
          <a:xfrm>
            <a:off x="1042920" y="1700280"/>
            <a:ext cx="7201080" cy="4527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-1821960" y="404640"/>
            <a:ext cx="126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9900"/>
                </a:solidFill>
                <a:latin typeface="Monotype Corsiva"/>
              </a:rPr>
              <a:t>Потребление пресной воды человечест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27-2" descr="Рис. 9. Сравнительный анализ потребления пресной воды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51688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graphicFrame>
        <p:nvGraphicFramePr>
          <p:cNvPr id="137" name=""/>
          <p:cNvGraphicFramePr/>
          <p:nvPr/>
        </p:nvGraphicFramePr>
        <p:xfrm>
          <a:off x="4479840" y="20048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1943280" y="332640"/>
            <a:ext cx="130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Monotype Corsiva"/>
              </a:rPr>
              <a:t>Расход пресной воды на хозяйственные нужд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3-2" descr="Рис. 2. Основные производства, загрязняющие природные водоемы"/>
          <p:cNvPicPr/>
          <p:nvPr/>
        </p:nvPicPr>
        <p:blipFill>
          <a:blip r:embed="rId2"/>
          <a:stretch/>
        </p:blipFill>
        <p:spPr>
          <a:xfrm>
            <a:off x="1332000" y="1628640"/>
            <a:ext cx="6696000" cy="47102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11280" y="47628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Производства, загрязняющие в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02840"/>
            <a:ext cx="8316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Человечество стало испытывать дефиц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ес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Жителям Земли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ережно относиться к потреблению воды;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• совершенствовать оборотные системы водоснабжения;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• улучшать очистку сточных вод;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• использовать маловодные технологии;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• исполнять природоохранное законод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273040" cy="2006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313080" cy="2182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54" name="Rectangle 7"/>
          <p:cNvSpPr/>
          <p:nvPr/>
        </p:nvSpPr>
        <p:spPr>
          <a:xfrm>
            <a:off x="395280" y="260280"/>
            <a:ext cx="8510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600" spc="-1" strike="noStrike">
                <a:solidFill>
                  <a:srgbClr val="ff0000"/>
                </a:solidFill>
                <a:latin typeface="Monotype Corsiva"/>
              </a:rPr>
              <a:t>Закрывай  покрепче 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Monotype Corsiva"/>
              </a:rPr>
              <a:t>кран,     чтоб 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Monotype Corsiva"/>
              </a:rPr>
              <a:t>не   вытек   океан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9920" y="1195200"/>
            <a:ext cx="8788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     Вода занимает ¾ поверхност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     Запасы пресной воды на Земле неисчерпа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     Чистая вода не имеет цвета и запа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     Вода встречается в почве, минер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.     Вода – распределитель солнечной энергии на Земл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главный творец климата, аккумулятор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.     Природная вода является раств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.     Фильтрование удаляет из воды растворенные в ней приме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8.     Дистиллированная вода содержит 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9.     Чистая вода – хороший проводник электр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.   Вода используется в автомобилях для охлаждения двиг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1.   Всеми свойствами воды как индивидуального ве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ладает морская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2.  Чистая вода кипит при температуре 10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960" y="289080"/>
            <a:ext cx="92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Monotype Corsiva"/>
              </a:rPr>
              <a:t>Какие утверждения верны?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81080" y="1052640"/>
            <a:ext cx="5430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Правильные ответ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, 3, 4, 5, 6, 10,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730600" cy="26784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3240" y="692280"/>
            <a:ext cx="7534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Monotype Corsiva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§ 29 (с. 82—84), упр. 1—4 (с. 87), задача (с. 8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765000"/>
            <a:ext cx="65739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Вода, у тебя нет ни вкуса,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ни цвета, ни запаха,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тебя невозможно описать,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тобой наслаждаются,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не ведая, что ты такое!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Нельзя сказать,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что ты необходима для жизни: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ты сама жизнь.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Ты самое большое </a:t>
            </a:r>
            <a:br>
              <a:rPr sz="3200"/>
            </a:b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богатство на свет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Антуан де Сент-Экзюп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73080" cy="2227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981240" cy="29862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4105080" cy="29862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3859200" cy="28940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686040"/>
            <a:ext cx="4105080" cy="29257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4360" y="695160"/>
            <a:ext cx="3887640" cy="2821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716360" y="692280"/>
            <a:ext cx="3743280" cy="2808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84360" y="3789360"/>
            <a:ext cx="3887640" cy="26067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4" name="Picture 23" descr="N558076"/>
          <p:cNvPicPr/>
          <p:nvPr/>
        </p:nvPicPr>
        <p:blipFill>
          <a:blip r:embed="rId9"/>
          <a:stretch/>
        </p:blipFill>
        <p:spPr>
          <a:xfrm>
            <a:off x="4932360" y="3789360"/>
            <a:ext cx="3600360" cy="25369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5" name="Picture 5" descr="images7"/>
          <p:cNvPicPr/>
          <p:nvPr/>
        </p:nvPicPr>
        <p:blipFill>
          <a:blip r:embed="rId10"/>
          <a:stretch/>
        </p:blipFill>
        <p:spPr>
          <a:xfrm>
            <a:off x="2124000" y="1700280"/>
            <a:ext cx="4788000" cy="3591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ample11"/>
          <p:cNvPicPr/>
          <p:nvPr/>
        </p:nvPicPr>
        <p:blipFill>
          <a:blip r:embed="rId2"/>
          <a:stretch/>
        </p:blipFill>
        <p:spPr>
          <a:xfrm>
            <a:off x="324000" y="333360"/>
            <a:ext cx="3315960" cy="244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408061"/>
          <p:cNvPicPr/>
          <p:nvPr/>
        </p:nvPicPr>
        <p:blipFill>
          <a:blip r:embed="rId3"/>
          <a:stretch/>
        </p:blipFill>
        <p:spPr>
          <a:xfrm>
            <a:off x="5508720" y="407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N307080"/>
          <p:cNvPicPr/>
          <p:nvPr/>
        </p:nvPicPr>
        <p:blipFill>
          <a:blip r:embed="rId4"/>
          <a:stretch/>
        </p:blipFill>
        <p:spPr>
          <a:xfrm>
            <a:off x="395280" y="4076640"/>
            <a:ext cx="3389400" cy="254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5580000" y="404640"/>
            <a:ext cx="3168720" cy="2365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132000" y="1916280"/>
            <a:ext cx="284184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1979640" y="549360"/>
            <a:ext cx="54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В истории наш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планеты вода им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исключ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ам, где есть жизн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всегда есть во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Жизнь без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невозмож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515880" y="836640"/>
            <a:ext cx="105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22 марта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Всемирный день вод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2463480" cy="3397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54000" y="1628640"/>
            <a:ext cx="919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асы воды на Земл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-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млн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454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с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них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ее 2%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носится к пресным вод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доступны для использования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3%.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ольшая часть пресной воды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доступн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человеку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.к. содержится в лед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ем воды в Мировом океане –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70 млн. км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поверхности Земли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-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39 х 10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458136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 атмосфере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-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,3 х 10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89000"/>
            <a:ext cx="78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6028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Monotype Corsiva"/>
              </a:rPr>
              <a:t>Вода на Зем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484360" y="260280"/>
            <a:ext cx="403884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Ни одно живое существо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ожет жить в абсолю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сухом пространстве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ожет оставаться ж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лишившись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Какое бы животное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растение мы не взяли, в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ходит вода как одн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главных составны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итатели водоё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содержат в себе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оды, чем жители с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теле рыб –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70-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медузе –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больше 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растениях суши –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до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медуза"/>
          <p:cNvPicPr/>
          <p:nvPr/>
        </p:nvPicPr>
        <p:blipFill>
          <a:blip r:embed="rId2"/>
          <a:stretch/>
        </p:blipFill>
        <p:spPr>
          <a:xfrm>
            <a:off x="6588000" y="981000"/>
            <a:ext cx="2160720" cy="1656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Picture 14" descr="A574020"/>
          <p:cNvPicPr/>
          <p:nvPr/>
        </p:nvPicPr>
        <p:blipFill>
          <a:blip r:embed="rId3"/>
          <a:stretch/>
        </p:blipFill>
        <p:spPr>
          <a:xfrm>
            <a:off x="250920" y="4076640"/>
            <a:ext cx="2232000" cy="1800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92" name="Picture 15" descr="P6250496"/>
          <p:cNvPicPr/>
          <p:nvPr/>
        </p:nvPicPr>
        <p:blipFill>
          <a:blip r:embed="rId4"/>
          <a:stretch/>
        </p:blipFill>
        <p:spPr>
          <a:xfrm>
            <a:off x="179280" y="1052640"/>
            <a:ext cx="2265480" cy="1584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516720" y="4149720"/>
            <a:ext cx="2370240" cy="17780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26028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Monotype Corsiva"/>
              </a:rPr>
              <a:t>Вода в организм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660400" cy="432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25360"/>
            <a:ext cx="590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Желудочный сок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,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люн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,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текловидное тело глаза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лазма крови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рое вещество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мозг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а –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Почки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ердце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Легкие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Мышцы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пинной мозг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4,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Кожа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лое вещество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мозг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а –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чен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келет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убная эмал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Monotype Corsiva"/>
              </a:rPr>
              <a:t>Трудно представить себе область человеческой деятельности,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Monotype Corsiva"/>
              </a:rPr>
              <a:t>где не применялась бы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706480" cy="18734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778120" cy="1979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706480" cy="20304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492360" y="1989000"/>
            <a:ext cx="1735200" cy="22752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348000" y="5013360"/>
            <a:ext cx="2314440" cy="16495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 rot="19894200">
            <a:off x="1619280" y="2852280"/>
            <a:ext cx="2274840" cy="17067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508720" y="1989000"/>
            <a:ext cx="3179520" cy="2046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 rot="1846200">
            <a:off x="4787640" y="2708280"/>
            <a:ext cx="2274840" cy="1704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6156360" y="4149720"/>
            <a:ext cx="2448000" cy="1601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79280" y="4149720"/>
            <a:ext cx="2362320" cy="13669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4" name="Picture 7" descr=""/>
          <p:cNvPicPr/>
          <p:nvPr/>
        </p:nvPicPr>
        <p:blipFill>
          <a:blip r:embed="rId12"/>
          <a:stretch/>
        </p:blipFill>
        <p:spPr>
          <a:xfrm>
            <a:off x="3635280" y="3284640"/>
            <a:ext cx="1979640" cy="2087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3:11:06Z</dcterms:created>
  <dc:creator>User</dc:creator>
  <dc:description/>
  <dc:language>en-US</dc:language>
  <cp:lastModifiedBy>User</cp:lastModifiedBy>
  <dcterms:modified xsi:type="dcterms:W3CDTF">2009-08-10T06:19:41Z</dcterms:modified>
  <cp:revision>13</cp:revision>
  <dc:subject/>
  <dc:title>ВОДА В ПРИРОДЕ</dc:title>
</cp:coreProperties>
</file>